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65DF9-3F82-4FDE-B212-714C211AA8B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A9282-C737-477B-8B09-5EB66BD0934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08BDC-F96A-4656-9AD1-0083CA68FF3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89652-BF10-451F-8889-1DDBAF5507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B50CF-00E7-443B-ABE7-26F1BD6C2EB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0808E-6A6E-4950-8F01-C22BA5E4BB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39FCB-1D34-4D27-94F2-B8E51F3B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19C1-4DE4-4BC3-9848-FBCF3843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68B6-25B8-4C9A-B55D-F3B8A473E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E431-73EF-43F0-B977-CA2D7BA6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1F8F-938B-44DC-A148-74875BC4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6D5D8-F0E6-42D4-92A8-7E4B2199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45BBE-D0E0-40C6-AEA7-BFD368CB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DA860-6713-48B3-89B8-CA49F46F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BF01E-B832-4D56-9481-5A5BA80C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F787-5BE4-4E51-A4E9-400A0CE5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C2103-5224-4045-89B4-602CF967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C7BB51-A89F-430D-A8AD-BCDE57F2EAA1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ASÍ SON LOS VOLC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sí son los volc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900000" y="2340000"/>
            <a:ext cx="496728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82692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artes de un volc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6156360" y="4797360"/>
            <a:ext cx="27734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cámara magmátic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zona de la litosfera donde se acumula el magma y desde la que salen al exterior los materiales volcán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6372360" y="3429000"/>
            <a:ext cx="2771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chimene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onducto que comunica la cámara magmática con el exteri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6012000" y="1773360"/>
            <a:ext cx="2592360" cy="13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edificio volcánico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tiene forma de cono y se forma por la acumulación de materiales que expuls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volcá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971640" y="1413000"/>
            <a:ext cx="2735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ráter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s la abertura del volcán al exterior. Tiene forma de embudo y suele estar en la cima del edificio volcánic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3564000" y="1916280"/>
            <a:ext cx="954000" cy="74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 flipH="1">
            <a:off x="5003640" y="1989000"/>
            <a:ext cx="10209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 flipH="1">
            <a:off x="4571640" y="3645000"/>
            <a:ext cx="180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 flipH="1">
            <a:off x="4642920" y="5084640"/>
            <a:ext cx="151308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23T16:42:39Z</dcterms:modified>
  <cp:revision>45</cp:revision>
  <dc:subject/>
  <dc:title>Diapositiva 1</dc:title>
</cp:coreProperties>
</file>